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E6F-64D4-4759-B720-B340CB09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F3B-9E01-4102-B83D-95AB47A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F21-B72A-463E-8501-DF504033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70A-52DF-4023-A368-6D7D056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0CA-3E43-4AF8-B1A5-D9600EC3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796-BF4E-4479-997B-9621C18E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6B3-9833-4CFB-A361-C06E3668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4F5-0322-42F4-A299-71ED21F5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709-6EC4-4E09-BC6B-9CFFFB33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BA6-42D2-41C8-B8AF-C83A093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1C9-6A1E-4CB8-A8BE-E7A9856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6A2-46E8-4E47-9C7A-4D96C36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5001-38FE-487E-B2C5-5C15C58A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zhidao.baidu.com/search?word=&#21517;&#35789;&#22797;&#25968;&amp;fr=qb_search_exp&amp;ie=utf8" TargetMode="External"/><Relationship Id="rId3" Type="http://schemas.openxmlformats.org/officeDocument/2006/relationships/hyperlink" Target="http://zhidao.baidu.com/search?word=&#36741;&#38899;&#23383;&#27597;&amp;fr=qb_search_exp&amp;ie=utf8" TargetMode="External"/><Relationship Id="rId4" Type="http://schemas.openxmlformats.org/officeDocument/2006/relationships/hyperlink" Target="http://zhidao.baidu.com/search?word=&#20803;&#38899;&#23383;&#27597;&amp;fr=qb_search_exp&amp;ie=utf8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初中背景图社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Unit 4  At the f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642960" y="20001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 Let's lea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5335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句型转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066680" y="1219320"/>
            <a:ext cx="7010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 sheep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变复数句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some cows.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单数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some ducks.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变一般疑问句并作肯定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autiful hor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画线部分提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my hens.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变一般疑问句并作否定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gs.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画线部分提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533520" y="114228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Copy the new words and sent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Make a new dialogue and act it out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合本课学习内容编排一段含有名词复数的问答对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u=1471260494,1401427928&amp;fm=23&amp;gp=0"/>
          <p:cNvPicPr/>
          <p:nvPr/>
        </p:nvPicPr>
        <p:blipFill>
          <a:blip r:embed="rId2"/>
          <a:stretch/>
        </p:blipFill>
        <p:spPr>
          <a:xfrm>
            <a:off x="1828800" y="914400"/>
            <a:ext cx="5638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15360" cy="7095960"/>
          </a:xfrm>
          <a:prstGeom prst="rect">
            <a:avLst/>
          </a:prstGeom>
          <a:ln w="0">
            <a:noFill/>
          </a:ln>
        </p:spPr>
      </p:pic>
      <p:pic>
        <p:nvPicPr>
          <p:cNvPr id="45" name="缘分天空.mp3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600200" y="1447920"/>
            <a:ext cx="45576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Let's sin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9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u=2913340513,3895434202&amp;fm=23&amp;gp=0"/>
          <p:cNvPicPr/>
          <p:nvPr/>
        </p:nvPicPr>
        <p:blipFill>
          <a:blip r:embed="rId2"/>
          <a:stretch/>
        </p:blipFill>
        <p:spPr>
          <a:xfrm>
            <a:off x="3048120" y="914400"/>
            <a:ext cx="449568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u=2181382121,154051349&amp;fm=23&amp;gp=0"/>
          <p:cNvPicPr/>
          <p:nvPr/>
        </p:nvPicPr>
        <p:blipFill>
          <a:blip r:embed="rId3"/>
          <a:srcRect l="0" t="15999" r="0" b="0"/>
          <a:stretch/>
        </p:blipFill>
        <p:spPr>
          <a:xfrm>
            <a:off x="2514600" y="1066680"/>
            <a:ext cx="4724280" cy="398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u=1767910894,2501737984&amp;fm=59"/>
          <p:cNvPicPr/>
          <p:nvPr/>
        </p:nvPicPr>
        <p:blipFill>
          <a:blip r:embed="rId4"/>
          <a:stretch/>
        </p:blipFill>
        <p:spPr>
          <a:xfrm>
            <a:off x="1565280" y="-380880"/>
            <a:ext cx="3387600" cy="478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u=317074953,3902766282&amp;fm=23&amp;gp=0"/>
          <p:cNvPicPr/>
          <p:nvPr/>
        </p:nvPicPr>
        <p:blipFill>
          <a:blip r:embed="rId5"/>
          <a:stretch/>
        </p:blipFill>
        <p:spPr>
          <a:xfrm>
            <a:off x="2209680" y="0"/>
            <a:ext cx="6096240" cy="609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u=27158766,3636825218&amp;fm=23&amp;gp=0"/>
          <p:cNvPicPr/>
          <p:nvPr/>
        </p:nvPicPr>
        <p:blipFill>
          <a:blip r:embed="rId6"/>
          <a:srcRect l="2655" t="7780" r="0" b="0"/>
          <a:stretch/>
        </p:blipFill>
        <p:spPr>
          <a:xfrm>
            <a:off x="1219320" y="2590920"/>
            <a:ext cx="4647960" cy="240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u=2646059480,645514099&amp;fm=90&amp;gp=0"/>
          <p:cNvPicPr/>
          <p:nvPr/>
        </p:nvPicPr>
        <p:blipFill>
          <a:blip r:embed="rId7"/>
          <a:srcRect l="0" t="0" r="0" b="8559"/>
          <a:stretch/>
        </p:blipFill>
        <p:spPr>
          <a:xfrm>
            <a:off x="990720" y="914400"/>
            <a:ext cx="7753320" cy="39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u=1393540960,369453557&amp;fm=23&amp;gp=0"/>
          <p:cNvPicPr/>
          <p:nvPr/>
        </p:nvPicPr>
        <p:blipFill>
          <a:blip r:embed="rId8"/>
          <a:stretch/>
        </p:blipFill>
        <p:spPr>
          <a:xfrm>
            <a:off x="2666880" y="6094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80880" y="1290600"/>
            <a:ext cx="3048120" cy="2064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—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w—c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—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9880" y="1752480"/>
            <a:ext cx="4038840" cy="132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—pot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—toma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895480" y="3276720"/>
            <a:ext cx="3048120" cy="132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p—sh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r—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914400" y="3049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认识单复数的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04920" y="380880"/>
            <a:ext cx="8458200" cy="4120560"/>
          </a:xfrm>
          <a:prstGeom prst="rect">
            <a:avLst/>
          </a:prstGeom>
          <a:solidFill>
            <a:srgbClr val="ffff99">
              <a:alpha val="55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般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名词复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在名词后面加上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”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结尾的词加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”;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以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辅音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的词，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元音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的名词变复数时，直接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复数；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以有生命的植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的名词变复数时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的名词变复数时，去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80880" y="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u=2231425001,231190445&amp;fm=23&amp;gp=0"/>
          <p:cNvPicPr/>
          <p:nvPr/>
        </p:nvPicPr>
        <p:blipFill>
          <a:blip r:embed="rId2"/>
          <a:stretch/>
        </p:blipFill>
        <p:spPr>
          <a:xfrm>
            <a:off x="1219320" y="1066680"/>
            <a:ext cx="2361960" cy="1492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u=2110916904,3705909569&amp;fm=23&amp;gp=0"/>
          <p:cNvPicPr/>
          <p:nvPr/>
        </p:nvPicPr>
        <p:blipFill>
          <a:blip r:embed="rId3"/>
          <a:stretch/>
        </p:blipFill>
        <p:spPr>
          <a:xfrm rot="15687600">
            <a:off x="5901480" y="343080"/>
            <a:ext cx="2495520" cy="24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u=1479376947,3596369771&amp;fm=90&amp;gp=0"/>
          <p:cNvPicPr/>
          <p:nvPr/>
        </p:nvPicPr>
        <p:blipFill>
          <a:blip r:embed="rId4"/>
          <a:stretch/>
        </p:blipFill>
        <p:spPr>
          <a:xfrm>
            <a:off x="685800" y="2971800"/>
            <a:ext cx="198756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4"/>
          <p:cNvSpPr/>
          <p:nvPr/>
        </p:nvSpPr>
        <p:spPr>
          <a:xfrm>
            <a:off x="2514600" y="2362320"/>
            <a:ext cx="3809880" cy="1371600"/>
          </a:xfrm>
          <a:prstGeom prst="cloudCallout">
            <a:avLst>
              <a:gd name="adj1" fmla="val -12624"/>
              <a:gd name="adj2" fmla="val 1144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1800" y="25588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sheep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6172200" y="3276720"/>
            <a:ext cx="2971800" cy="1066680"/>
          </a:xfrm>
          <a:prstGeom prst="cloudCallout">
            <a:avLst>
              <a:gd name="adj1" fmla="val -22597"/>
              <a:gd name="adj2" fmla="val 9717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6477120" y="34592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v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066680" y="2286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rlin Sans FB Demi"/>
              </a:rPr>
              <a:t>Let’s ta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5335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sten and 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These are _______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绵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any hens are there at the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 th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u=2345727922,3260704787&amp;fm=23&amp;gp=0"/>
          <p:cNvPicPr/>
          <p:nvPr/>
        </p:nvPicPr>
        <p:blipFill>
          <a:blip r:embed="rId2"/>
          <a:srcRect l="0" t="0" r="0" b="7108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0" y="3581280"/>
            <a:ext cx="3886200" cy="1371600"/>
          </a:xfrm>
          <a:prstGeom prst="cloudCallout">
            <a:avLst>
              <a:gd name="adj1" fmla="val 43462"/>
              <a:gd name="adj2" fmla="val 9351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farm. It’s bi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5257800" y="4038480"/>
            <a:ext cx="3886200" cy="914400"/>
          </a:xfrm>
          <a:prstGeom prst="cloudCallout">
            <a:avLst>
              <a:gd name="adj1" fmla="val -3268"/>
              <a:gd name="adj2" fmla="val 9444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se…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777293_111831695280_2"/>
          <p:cNvPicPr/>
          <p:nvPr/>
        </p:nvPicPr>
        <p:blipFill>
          <a:blip r:embed="rId1"/>
          <a:srcRect l="0" t="0" r="0" b="4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533520" y="483840"/>
            <a:ext cx="7848360" cy="5579280"/>
          </a:xfrm>
          <a:prstGeom prst="rect">
            <a:avLst/>
          </a:prstGeom>
          <a:solidFill>
            <a:srgbClr val="ffff99">
              <a:alpha val="5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复数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ep______cow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n_______  duck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_______horse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g_______   goose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t_______   do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________    this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t________  is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5:52:15Z</dcterms:created>
  <dc:creator>Administrator</dc:creator>
  <dc:description/>
  <dc:language>en-US</dc:language>
  <cp:lastModifiedBy>Administrator</cp:lastModifiedBy>
  <dcterms:modified xsi:type="dcterms:W3CDTF">2020-09-24T02:17:3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Version">
    <vt:r8>1</vt:r8>
  </property>
</Properties>
</file>